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7426-2B43-4CB1-BE6B-C721D0E65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63BA-03D1-4703-B5ED-A35C93514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E0DE-2805-4863-84D2-EAA36F7A9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3676-A501-4D94-93EF-6B2ABB552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79DA4-A8AC-482F-B665-5A4554CAA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E3DD0-F4AF-4ABF-B108-1D64BB7B7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16C05-CA0A-4E38-8560-972F418B5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8EE85-CBC6-4F5C-B852-8DB95ACD1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7D270-A78A-4523-8FAF-466732F4F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6DDD2-7773-4AD6-A01B-5CE1EBA07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1DD15-0E25-4123-937A-1FE88189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9B4A-2E3D-4586-AA72-39A492415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1C5E5-2001-4786-8872-BB3FC089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E7FFE-916F-40FE-BC97-262ADC84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1BC35-4028-42AD-A1DB-6EBD0F7E4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E0288-AFA8-46C3-B6BB-489494FB6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BE98B-DE4E-407E-A91D-801A07155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1819FA-818A-4E39-AC11-91EC6A41A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85288A-BBE8-4544-9BDC-C9C515D76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C70FF2-8046-4E1D-A05A-EF42A98C0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38C3BD-BDCC-4037-97EA-A371CBA84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F18EBD-C4C2-48B2-B6F5-AD2A051EA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19AA-31DC-4739-BED3-935BDBDD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02809F-38C7-4089-8CD9-271DA897B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98E844-CD8A-4C47-9159-C2283645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8F9846-8033-4604-A4B5-B0970100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DF99BA-7E7F-47B5-9AA1-7D0FCEC9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8B2EEB-AF51-4F1F-8786-B31033F63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F3D015-7414-401C-9253-6A43B0543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D3EB3F-510B-4FC4-A12A-1AE13506F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ED3F2B-A902-4879-AF31-58B4F9ED0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E703BB-4A0E-4EBE-9C12-0F3F48329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664A36-1CE6-41A3-A3FF-C8D84ED09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01AA-8160-423C-8699-B56FE5DD0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93E102-183D-4AC6-B002-79C3C1BD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C60698-35E0-423D-84DA-D140012F6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0E6E5B-B02F-44FD-845C-B70290DDD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D9348C-6E92-4C4A-8CCE-330728D4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5EEB95-49B0-41C6-AFB2-3D2FB167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64AE1D-F114-4976-A3DF-974FA83D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459C48-3C2B-482F-99B2-5A630E4FD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871C6C-B81C-43FB-8082-E0E18D13D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2A711E-934D-4890-B799-8ADF00C39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7BC316-00A0-4071-9896-3CBA62410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EB4B-7D6A-4E41-A7E9-917E5BB58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9841F6-FC4E-4B2B-9E8C-CF1F3326D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75CA0E-AEFC-460B-850B-0C371CDB5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720CE4-E45D-44A8-B50B-34FFA7B9B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D7DBB9-318B-414D-B0AB-FC09E1252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F8DF39-E3D8-4767-AEE7-AF1DDEE81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51BC89-427E-4042-AEEF-7CE42C14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2E789E-65E0-4B6F-98B5-E1F7B426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95DF6C-6789-462E-9FE0-90836C19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1EA4BB-1E26-4ADE-B906-3998AFA3A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F781F2-2F35-4F49-9C86-2A6262814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0A69-CAD1-49F3-8CE8-AE96D8989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D57D47-216D-4C3D-89EF-2535EF19A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ACFCD-8F79-4CB2-8931-ED73C195F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FBC8D0-E450-41D5-9749-FD7A3DE4F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0886A-6EAA-4738-863D-40C28CAC9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5A13CB-1957-405A-A945-8811136A4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FA713-EB3A-49BC-A2D5-79D152150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E508D-735D-4EDC-A660-5D287DA6D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4F373-010D-4443-B6B4-527AF782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1D148-EFEC-4D89-A644-50AE970A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CAE35-C249-414E-A1DC-07EE15DC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3698-A4F6-438F-A725-F0BB6BEC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2E7C4-9FC4-4C43-9EAC-C8CC225FE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5440F2-E6D0-40AD-BC2D-F4AEDAA3C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A0165-18E7-40F8-AC08-22DB2DF0E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F5BA76-E10B-40F5-991B-B8572B456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1AF6BA-9561-4C62-B493-A04431CC8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41B1C5-F464-4E73-82A5-0099BFEBB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112BE7-5779-430D-B0D3-41B7DFFCF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DBCE8F-5B7A-4C8B-94C4-D3FA91EB0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4C2D1E-3EC8-4CDD-AEBA-D85521E2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132C59-0CEB-485C-84D5-78F48868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D9AA-2C41-4B45-A422-8BE4B67A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185579-70DF-424A-88BC-6381ADA5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3BF8E8-204A-43C0-9B0B-7BD3FC2A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1E6105-1545-4B62-90E3-158CD9957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633717-AC05-4AD1-857A-CCDE597E5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F79656-6276-47D5-A933-8A30C3206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8DB796-F0F6-4AA2-9555-7163B1D0C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698C47-FBF6-4B16-8E8B-4F821664A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F9371B-93A2-4192-85F6-672222B38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F81AE6-0757-4680-9B8E-2A0FF8243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1D40D7-A949-4971-B73F-B6C796738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060C-F861-45A8-829E-E056653E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AB3509-3AFF-4A43-9CF6-E8D1DD4D8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0DB3AD-36A1-4BC5-851E-33D8EE7A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11FA21-D644-405E-A021-CCFC7E6A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47A07F-434D-492B-BBC2-20C14C49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565C8C-A3ED-4E08-9C91-FB33B0E8E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61C5A1-37F4-4C44-896D-3F052ECA8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318FE1-E81C-4488-946D-4236DEE5C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tângulo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tângulo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tângulo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13CB5-E078-46BC-92CA-1D3B69A6D40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tângulo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tângulo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tângulo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B235-B535-43E9-837F-F31E8DE19190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tângulo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tângulo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tângulo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7BFB8-4D5D-4744-B830-93803EF87F8B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tângulo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tângulo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tângulo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A2332-98AF-406C-B433-1524203604C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tângulo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tângulo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tângulo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3F4F0-0713-480C-AF1F-A5AA1AA2B05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2429C-5CE6-4A14-8CE0-FEACD5EDA2FD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tângulo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tângulo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tângulo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tângulo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9B3CF-64F1-400C-A9AB-F764D425FAD2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tângulo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tângulo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tângulo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ED483-27EA-4924-B238-22C64F5A0E2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371600" y="4800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dc3"/>
                </a:solidFill>
                <a:latin typeface="Tw Cen MT"/>
              </a:rPr>
              <a:t>RECUPERAÇÃO APÓS FALHA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775f55"/>
                </a:solidFill>
                <a:latin typeface="Tw Cen MT"/>
              </a:rPr>
              <a:t>Como recuperar o BD?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858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Tw Cen MT"/>
              </a:rPr>
              <a:t>Falha de transaçã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w Cen MT"/>
              </a:rPr>
              <a:t>Desfazer as operações já realizadas pela transação até o início da transação ou até um determinado ponto dentro da transação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Tw Cen MT"/>
              </a:rPr>
              <a:t>Falha do sistem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w Cen MT"/>
              </a:rPr>
              <a:t>Recuperar o mais recente estado consistente do BD que existia antes da falh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w Cen MT"/>
              </a:rPr>
              <a:t>Refazer ou desfazer transaçõe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Tw Cen MT"/>
              </a:rPr>
              <a:t>Falha de disc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w Cen MT"/>
              </a:rPr>
              <a:t>Refazer o BD utilizando um BD espelho ou uma cópia de seguranç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775f55"/>
                </a:solidFill>
                <a:latin typeface="Tw Cen MT"/>
              </a:rPr>
              <a:t>Arquitetura do Gerenciador de Recuperação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6840" y="4571640"/>
            <a:ext cx="8497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w Cen MT"/>
              </a:rPr>
              <a:t>Log</a:t>
            </a:r>
            <a:r>
              <a:rPr b="0" lang="pt-BR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800" spc="-1" strike="noStrike">
                <a:solidFill>
                  <a:srgbClr val="000000"/>
                </a:solidFill>
                <a:latin typeface="Tw Cen MT"/>
              </a:rPr>
              <a:t> recuperação de curta duração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w Cen MT"/>
              </a:rPr>
              <a:t>Falha de transação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w Cen MT"/>
              </a:rPr>
              <a:t>Recuperação de média e longa duração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w Cen MT"/>
              </a:rPr>
              <a:t>Falha de sistema (</a:t>
            </a:r>
            <a:r>
              <a:rPr b="1" lang="pt-BR" sz="2400" spc="-1" strike="noStrike">
                <a:solidFill>
                  <a:srgbClr val="000000"/>
                </a:solidFill>
                <a:latin typeface="Tw Cen MT"/>
              </a:rPr>
              <a:t>BD + Log</a:t>
            </a:r>
            <a:r>
              <a:rPr b="0" lang="pt-BR" sz="24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w Cen MT"/>
              </a:rPr>
              <a:t>Falha de disco (</a:t>
            </a:r>
            <a:r>
              <a:rPr b="1" lang="pt-BR" sz="2400" spc="-1" strike="noStrike">
                <a:solidFill>
                  <a:srgbClr val="000000"/>
                </a:solidFill>
                <a:latin typeface="Tw Cen MT"/>
              </a:rPr>
              <a:t>Cópia de segurança + Log</a:t>
            </a:r>
            <a:r>
              <a:rPr b="0" lang="pt-BR" sz="24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749160" y="2438280"/>
            <a:ext cx="24386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58bb8"/>
                </a:solidFill>
                <a:latin typeface="Tahoma"/>
              </a:rPr>
              <a:t>Escalon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AutoShape 5"/>
          <p:cNvSpPr/>
          <p:nvPr/>
        </p:nvSpPr>
        <p:spPr>
          <a:xfrm>
            <a:off x="1130400" y="3429000"/>
            <a:ext cx="1828800" cy="91440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58bb8"/>
                </a:solidFill>
                <a:latin typeface="Tahoma"/>
              </a:rPr>
              <a:t>B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AutoShape 6"/>
          <p:cNvSpPr/>
          <p:nvPr/>
        </p:nvSpPr>
        <p:spPr>
          <a:xfrm>
            <a:off x="4178160" y="2133720"/>
            <a:ext cx="221004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58bb8"/>
                </a:solidFill>
                <a:latin typeface="Tahoma"/>
              </a:rPr>
              <a:t>Gerenciador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58bb8"/>
                </a:solidFill>
                <a:latin typeface="Tahoma"/>
              </a:rPr>
              <a:t>Recuper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AutoShape 7"/>
          <p:cNvSpPr/>
          <p:nvPr/>
        </p:nvSpPr>
        <p:spPr>
          <a:xfrm>
            <a:off x="3797280" y="3733920"/>
            <a:ext cx="609480" cy="609480"/>
          </a:xfrm>
          <a:prstGeom prst="flowChartMagneticTap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AutoShape 8"/>
          <p:cNvSpPr/>
          <p:nvPr/>
        </p:nvSpPr>
        <p:spPr>
          <a:xfrm>
            <a:off x="6616800" y="3657600"/>
            <a:ext cx="609480" cy="609480"/>
          </a:xfrm>
          <a:prstGeom prst="flowChartMagneticTap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10"/>
          <p:cNvSpPr/>
          <p:nvPr/>
        </p:nvSpPr>
        <p:spPr>
          <a:xfrm>
            <a:off x="1587600" y="1600200"/>
            <a:ext cx="3808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11"/>
          <p:cNvSpPr/>
          <p:nvPr/>
        </p:nvSpPr>
        <p:spPr>
          <a:xfrm>
            <a:off x="196848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12"/>
          <p:cNvSpPr/>
          <p:nvPr/>
        </p:nvSpPr>
        <p:spPr>
          <a:xfrm flipH="1">
            <a:off x="1968120" y="1523880"/>
            <a:ext cx="7621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13"/>
          <p:cNvSpPr/>
          <p:nvPr/>
        </p:nvSpPr>
        <p:spPr>
          <a:xfrm>
            <a:off x="184680" y="1822320"/>
            <a:ext cx="15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558bb8"/>
                </a:solidFill>
                <a:latin typeface="Tahoma"/>
              </a:rPr>
              <a:t>Transaçõ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14"/>
          <p:cNvSpPr/>
          <p:nvPr/>
        </p:nvSpPr>
        <p:spPr>
          <a:xfrm>
            <a:off x="196848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15"/>
          <p:cNvSpPr/>
          <p:nvPr/>
        </p:nvSpPr>
        <p:spPr>
          <a:xfrm>
            <a:off x="3187800" y="2743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Line 17"/>
          <p:cNvSpPr/>
          <p:nvPr/>
        </p:nvSpPr>
        <p:spPr>
          <a:xfrm flipH="1">
            <a:off x="4254480" y="304812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Line 18"/>
          <p:cNvSpPr/>
          <p:nvPr/>
        </p:nvSpPr>
        <p:spPr>
          <a:xfrm>
            <a:off x="5245200" y="304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19"/>
          <p:cNvSpPr/>
          <p:nvPr/>
        </p:nvSpPr>
        <p:spPr>
          <a:xfrm>
            <a:off x="4505040" y="3657600"/>
            <a:ext cx="167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58bb8"/>
                </a:solidFill>
                <a:latin typeface="Tahoma"/>
              </a:rPr>
              <a:t>Cópia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58bb8"/>
                </a:solidFill>
                <a:latin typeface="Tahoma"/>
              </a:rPr>
              <a:t>seguranç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20"/>
          <p:cNvSpPr/>
          <p:nvPr/>
        </p:nvSpPr>
        <p:spPr>
          <a:xfrm>
            <a:off x="7302600" y="3800520"/>
            <a:ext cx="77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58bb8"/>
                </a:solidFill>
                <a:latin typeface="Tahoma"/>
              </a:rPr>
              <a:t>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775f55"/>
                </a:solidFill>
                <a:latin typeface="Tw Cen MT"/>
              </a:rPr>
              <a:t>Recuperação usando Lo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60948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Tw Cen MT"/>
              </a:rPr>
              <a:t>Arquivo onde ficam armazenadas todas as operações realizadas no B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w Cen MT"/>
              </a:rPr>
              <a:t>Cada vez que é executada uma operação sobre uma linha de uma tabela é criado uma entrada (ou registro) no Log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Tw Cen MT"/>
              </a:rPr>
              <a:t>Exemplos de registros no Log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w Cen MT"/>
              </a:rPr>
              <a:t>[begin_Transaction, T]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w Cen MT"/>
              </a:rPr>
              <a:t>[write, T, X, old, new]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w Cen MT"/>
              </a:rPr>
              <a:t>[read, T, X]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w Cen MT"/>
              </a:rPr>
              <a:t>[commit, T]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w Cen MT"/>
              </a:rPr>
              <a:t>[abort, T]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775f55"/>
                </a:solidFill>
                <a:latin typeface="Tw Cen MT"/>
              </a:rPr>
              <a:t>Log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228600" y="1676160"/>
            <a:ext cx="8726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w Cen MT"/>
              </a:rPr>
              <a:t>Armazenado na memória principal, em meio não-volátil e em meio estáve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w Cen MT"/>
              </a:rPr>
              <a:t>É um arquivo serial que guarda todas as modificações que foram realizadas no BD e quais transações realizaram quais modificações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w Cen MT"/>
              </a:rPr>
              <a:t>Este arquivo é lido durante o processo de recuperação pois pode levar um BD ao seu último estado consistente antes da falh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w Cen MT"/>
              </a:rPr>
              <a:t>U</a:t>
            </a:r>
            <a:r>
              <a:rPr b="0" lang="pt-PT" sz="2400" spc="-1" strike="noStrike">
                <a:solidFill>
                  <a:srgbClr val="000000"/>
                </a:solidFill>
                <a:latin typeface="Tw Cen MT"/>
              </a:rPr>
              <a:t>ma transação só é considerada executada quando todos os registros </a:t>
            </a:r>
            <a:r>
              <a:rPr b="0" lang="pt-BR" sz="2400" spc="-1" strike="noStrike">
                <a:solidFill>
                  <a:srgbClr val="000000"/>
                </a:solidFill>
                <a:latin typeface="Tw Cen MT"/>
              </a:rPr>
              <a:t>do </a:t>
            </a:r>
            <a:r>
              <a:rPr b="0" lang="pt-PT" sz="2400" spc="-1" strike="noStrike">
                <a:solidFill>
                  <a:srgbClr val="000000"/>
                </a:solidFill>
                <a:latin typeface="Tw Cen MT"/>
              </a:rPr>
              <a:t>Log desta</a:t>
            </a:r>
            <a:r>
              <a:rPr b="0" lang="pt-BR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Tw Cen MT"/>
              </a:rPr>
              <a:t>transação estiverem </a:t>
            </a:r>
            <a:r>
              <a:rPr b="0" lang="pt-BR" sz="2400" spc="-1" strike="noStrike">
                <a:solidFill>
                  <a:srgbClr val="000000"/>
                </a:solidFill>
                <a:latin typeface="Tw Cen MT"/>
              </a:rPr>
              <a:t>armazenadas no banco de dados físico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w Cen MT"/>
              </a:rPr>
              <a:t>R</a:t>
            </a:r>
            <a:r>
              <a:rPr b="0" lang="pt-PT" sz="2400" spc="-1" strike="noStrike">
                <a:solidFill>
                  <a:srgbClr val="000000"/>
                </a:solidFill>
                <a:latin typeface="Tw Cen MT"/>
              </a:rPr>
              <a:t>egistros do L</a:t>
            </a:r>
            <a:r>
              <a:rPr b="0" lang="pt-BR" sz="2400" spc="-1" strike="noStrike">
                <a:solidFill>
                  <a:srgbClr val="000000"/>
                </a:solidFill>
                <a:latin typeface="Tw Cen MT"/>
              </a:rPr>
              <a:t>og</a:t>
            </a:r>
            <a:r>
              <a:rPr b="0" lang="pt-PT" sz="2400" spc="-1" strike="noStrike">
                <a:solidFill>
                  <a:srgbClr val="000000"/>
                </a:solidFill>
                <a:latin typeface="Tw Cen MT"/>
              </a:rPr>
              <a:t> devem ser armazenados no arquivo na ordem em que eles foram</a:t>
            </a:r>
            <a:r>
              <a:rPr b="0" lang="pt-BR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Tw Cen MT"/>
              </a:rPr>
              <a:t>criados (exemplo: antes que o registro &lt;</a:t>
            </a:r>
            <a:r>
              <a:rPr b="0" lang="pt-BR" sz="2400" spc="-1" strike="noStrike">
                <a:solidFill>
                  <a:srgbClr val="000000"/>
                </a:solidFill>
                <a:latin typeface="Tw Cen MT"/>
              </a:rPr>
              <a:t>commit,</a:t>
            </a:r>
            <a:r>
              <a:rPr b="0" lang="pt-PT" sz="2400" spc="-1" strike="noStrike">
                <a:solidFill>
                  <a:srgbClr val="000000"/>
                </a:solidFill>
                <a:latin typeface="Tw Cen MT"/>
              </a:rPr>
              <a:t> Ti&gt; seja armazenado no arquivo, todos os</a:t>
            </a:r>
            <a:r>
              <a:rPr b="0" lang="pt-BR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Tw Cen MT"/>
              </a:rPr>
              <a:t>outros registros desta transação já devem estar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775f55"/>
                </a:solidFill>
                <a:latin typeface="Tw Cen MT"/>
              </a:rPr>
              <a:t>Recuperação de Falha de Transação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09480" y="16765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Tw Cen MT"/>
              </a:rPr>
              <a:t>Deve ser executada pelo SGBD quando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w Cen MT"/>
              </a:rPr>
              <a:t>uma transação que estava sendo executada  é cancelada (explícita/implícitamente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Tw Cen MT"/>
              </a:rPr>
              <a:t>Recuperaçã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w Cen MT"/>
              </a:rPr>
              <a:t>Os efeitos da transação em questão devem ser desfeito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w Cen MT"/>
              </a:rPr>
              <a:t>Para isso, deve-se varrer o arquivo de Log para identificar as operações já realizadas pela transação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775f55"/>
                </a:solidFill>
                <a:latin typeface="Tw Cen MT"/>
              </a:rPr>
              <a:t>Recuperação de Falha do Sistema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Tw Cen MT"/>
              </a:rPr>
              <a:t>O SGBD parou de executa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Tw Cen MT"/>
              </a:rPr>
              <a:t>Operações que estavam na memória volátil não foram armazenadas na memória físic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Tw Cen MT"/>
              </a:rPr>
              <a:t>Consequentemen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w Cen MT"/>
              </a:rPr>
              <a:t>Todas as transações que estavam em execução no momento da falha devem ser desfeita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Tw Cen MT"/>
              </a:rPr>
              <a:t>Questão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w Cen MT"/>
              </a:rPr>
              <a:t>Como o SGBD sabe as transações que estavam em execução? Deverá varrer todo o Log?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775f55"/>
                </a:solidFill>
                <a:latin typeface="Tw Cen MT"/>
              </a:rPr>
              <a:t>Checkpoint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09480" y="15235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w Cen MT"/>
              </a:rPr>
              <a:t>Ponto de control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w Cen MT"/>
              </a:rPr>
              <a:t>De tempos em tempos, o SGBD escreve no </a:t>
            </a:r>
            <a:r>
              <a:rPr b="0" lang="pt-BR" sz="2800" spc="-1" strike="noStrike">
                <a:solidFill>
                  <a:srgbClr val="000000"/>
                </a:solidFill>
                <a:latin typeface="Tw Cen MT"/>
              </a:rPr>
              <a:t>L</a:t>
            </a:r>
            <a:r>
              <a:rPr b="0" lang="pt-PT" sz="2800" spc="-1" strike="noStrike">
                <a:solidFill>
                  <a:srgbClr val="000000"/>
                </a:solidFill>
                <a:latin typeface="Tw Cen MT"/>
              </a:rPr>
              <a:t>og um</a:t>
            </a:r>
            <a:r>
              <a:rPr b="0" lang="pt-BR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pt-PT" sz="2800" spc="-1" strike="noStrike">
                <a:solidFill>
                  <a:srgbClr val="000000"/>
                </a:solidFill>
                <a:latin typeface="Tw Cen MT"/>
              </a:rPr>
              <a:t>registro especial chamado </a:t>
            </a:r>
            <a:r>
              <a:rPr b="0" i="1" lang="pt-PT" sz="2800" spc="-1" strike="noStrike">
                <a:solidFill>
                  <a:srgbClr val="000000"/>
                </a:solidFill>
                <a:latin typeface="Tw Cen MT"/>
              </a:rPr>
              <a:t>checkpoint</a:t>
            </a:r>
            <a:r>
              <a:rPr b="0" lang="pt-PT" sz="2800" spc="-1" strike="noStrike">
                <a:solidFill>
                  <a:srgbClr val="000000"/>
                </a:solidFill>
                <a:latin typeface="Tw Cen MT"/>
              </a:rPr>
              <a:t>, que serve para registrar</a:t>
            </a:r>
            <a:r>
              <a:rPr b="0" lang="pt-BR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pt-PT" sz="2800" spc="-1" strike="noStrike">
                <a:solidFill>
                  <a:srgbClr val="000000"/>
                </a:solidFill>
                <a:latin typeface="Tw Cen MT"/>
              </a:rPr>
              <a:t>as transações em execução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w Cen MT"/>
              </a:rPr>
              <a:t>A execução de um checkpoint envolve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13800" indent="-2617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w Cen MT"/>
              </a:rPr>
              <a:t>Gravar fisicamente o conteúdo do BD da memória volátil no BD físico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13800" indent="-2617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w Cen MT"/>
              </a:rPr>
              <a:t>Gravar fisicamente (meio estável) o conteúdo do Lo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13800" indent="-2617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w Cen MT"/>
              </a:rPr>
              <a:t>Gravar</a:t>
            </a:r>
            <a:r>
              <a:rPr b="0" lang="pt-PT" sz="2400" spc="-1" strike="noStrike">
                <a:solidFill>
                  <a:srgbClr val="000000"/>
                </a:solidFill>
                <a:latin typeface="Tw Cen MT"/>
              </a:rPr>
              <a:t> um registro de checkpoint no </a:t>
            </a:r>
            <a:r>
              <a:rPr b="0" lang="pt-BR" sz="2400" spc="-1" strike="noStrike">
                <a:solidFill>
                  <a:srgbClr val="000000"/>
                </a:solidFill>
                <a:latin typeface="Tw Cen MT"/>
              </a:rPr>
              <a:t>L</a:t>
            </a:r>
            <a:r>
              <a:rPr b="0" lang="pt-PT" sz="2400" spc="-1" strike="noStrike">
                <a:solidFill>
                  <a:srgbClr val="000000"/>
                </a:solidFill>
                <a:latin typeface="Tw Cen MT"/>
              </a:rPr>
              <a:t>o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w Cen MT"/>
              </a:rPr>
              <a:t>Se não existe este registro, teríamos que investigar todo o arquivo de Log para recuperar o BD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775f55"/>
                </a:solidFill>
                <a:latin typeface="Tw Cen MT"/>
              </a:rPr>
              <a:t>Checkpoin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Tw Cen MT"/>
              </a:rPr>
              <a:t>Quando ocorre uma falha de sistem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w Cen MT"/>
              </a:rPr>
              <a:t>Todas as transações cujos registros &lt;commit, Ti&gt; estejam depois do checkpoint mais recente gravado no Log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w Cen MT"/>
              </a:rPr>
              <a:t>Devem ser refeitas (REDO)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w Cen MT"/>
              </a:rPr>
              <a:t>Todas as transações cujos registros &lt;begin transaction, Ti&gt; estejam no Log mas os registros &lt;commit, Ti&gt; ou &lt;rollback, Ti&gt; não estejam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w Cen MT"/>
              </a:rPr>
              <a:t>Devem ser desfeitas (UNDO)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3"/>
          <p:cNvSpPr/>
          <p:nvPr/>
        </p:nvSpPr>
        <p:spPr>
          <a:xfrm>
            <a:off x="1285920" y="838080"/>
            <a:ext cx="7467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00"/>
                </a:solidFill>
                <a:latin typeface="Tahoma"/>
              </a:rPr>
              <a:t>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4"/>
          <p:cNvSpPr/>
          <p:nvPr/>
        </p:nvSpPr>
        <p:spPr>
          <a:xfrm>
            <a:off x="1285920" y="1295280"/>
            <a:ext cx="7467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75f55"/>
                </a:solidFill>
                <a:latin typeface="Tahoma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1285920" y="1752480"/>
            <a:ext cx="7467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00"/>
                </a:solidFill>
                <a:latin typeface="Tahoma"/>
              </a:rPr>
              <a:t>T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6"/>
          <p:cNvSpPr/>
          <p:nvPr/>
        </p:nvSpPr>
        <p:spPr>
          <a:xfrm>
            <a:off x="1285920" y="2209680"/>
            <a:ext cx="7467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75f55"/>
                </a:solidFill>
                <a:latin typeface="Tahoma"/>
              </a:rPr>
              <a:t>T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7"/>
          <p:cNvSpPr/>
          <p:nvPr/>
        </p:nvSpPr>
        <p:spPr>
          <a:xfrm>
            <a:off x="1285920" y="2666880"/>
            <a:ext cx="7467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00"/>
                </a:solidFill>
                <a:latin typeface="Tahoma"/>
              </a:rPr>
              <a:t>T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8"/>
          <p:cNvSpPr/>
          <p:nvPr/>
        </p:nvSpPr>
        <p:spPr>
          <a:xfrm>
            <a:off x="3886200" y="609480"/>
            <a:ext cx="0" cy="2590920"/>
          </a:xfrm>
          <a:prstGeom prst="line">
            <a:avLst/>
          </a:prstGeom>
          <a:ln w="936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9"/>
          <p:cNvSpPr/>
          <p:nvPr/>
        </p:nvSpPr>
        <p:spPr>
          <a:xfrm>
            <a:off x="7839000" y="609480"/>
            <a:ext cx="9720" cy="2590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10"/>
          <p:cNvSpPr/>
          <p:nvPr/>
        </p:nvSpPr>
        <p:spPr>
          <a:xfrm>
            <a:off x="1971720" y="1143000"/>
            <a:ext cx="1676520" cy="0"/>
          </a:xfrm>
          <a:prstGeom prst="line">
            <a:avLst/>
          </a:prstGeom>
          <a:ln w="28440">
            <a:solidFill>
              <a:srgbClr val="0066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Line 11"/>
          <p:cNvSpPr/>
          <p:nvPr/>
        </p:nvSpPr>
        <p:spPr>
          <a:xfrm>
            <a:off x="2581200" y="1600200"/>
            <a:ext cx="2286000" cy="0"/>
          </a:xfrm>
          <a:prstGeom prst="line">
            <a:avLst/>
          </a:prstGeom>
          <a:ln w="28440">
            <a:solidFill>
              <a:srgbClr val="775f55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Line 12"/>
          <p:cNvSpPr/>
          <p:nvPr/>
        </p:nvSpPr>
        <p:spPr>
          <a:xfrm>
            <a:off x="3495600" y="1981080"/>
            <a:ext cx="4343400" cy="0"/>
          </a:xfrm>
          <a:prstGeom prst="line">
            <a:avLst/>
          </a:prstGeom>
          <a:ln w="28440">
            <a:solidFill>
              <a:srgbClr val="0066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Line 13"/>
          <p:cNvSpPr/>
          <p:nvPr/>
        </p:nvSpPr>
        <p:spPr>
          <a:xfrm>
            <a:off x="4105440" y="2438280"/>
            <a:ext cx="1447560" cy="0"/>
          </a:xfrm>
          <a:prstGeom prst="line">
            <a:avLst/>
          </a:prstGeom>
          <a:ln w="28440">
            <a:solidFill>
              <a:srgbClr val="775f55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14"/>
          <p:cNvSpPr/>
          <p:nvPr/>
        </p:nvSpPr>
        <p:spPr>
          <a:xfrm>
            <a:off x="4714920" y="2895480"/>
            <a:ext cx="3124080" cy="0"/>
          </a:xfrm>
          <a:prstGeom prst="line">
            <a:avLst/>
          </a:prstGeom>
          <a:ln w="28440">
            <a:solidFill>
              <a:srgbClr val="0066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15"/>
          <p:cNvSpPr/>
          <p:nvPr/>
        </p:nvSpPr>
        <p:spPr>
          <a:xfrm>
            <a:off x="2908080" y="152280"/>
            <a:ext cx="179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dd8047"/>
                </a:solidFill>
                <a:latin typeface="Tahoma"/>
              </a:rPr>
              <a:t>Check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16"/>
          <p:cNvSpPr/>
          <p:nvPr/>
        </p:nvSpPr>
        <p:spPr>
          <a:xfrm>
            <a:off x="6254280" y="152280"/>
            <a:ext cx="25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Tahoma"/>
              </a:rPr>
              <a:t>Falha do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17"/>
          <p:cNvSpPr/>
          <p:nvPr/>
        </p:nvSpPr>
        <p:spPr>
          <a:xfrm>
            <a:off x="914400" y="60948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18"/>
          <p:cNvSpPr/>
          <p:nvPr/>
        </p:nvSpPr>
        <p:spPr>
          <a:xfrm>
            <a:off x="683640" y="15228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T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152280" y="3200400"/>
            <a:ext cx="87631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w Cen MT"/>
              </a:rPr>
              <a:t>Quando ocorre uma falha, o SGBD verifica o último checkpoint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w Cen MT"/>
              </a:rPr>
              <a:t>A recuperação de cada uma das transações ocorre das seguintes maneira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w Cen MT"/>
              </a:rPr>
              <a:t>T1 não é afetad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w Cen MT"/>
              </a:rPr>
              <a:t>T2 e T4 já estão completadas mas não conseguiram ter suas atualizações gravadas no BD físico </a:t>
            </a:r>
            <a:r>
              <a:rPr b="0" lang="pt-B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400" spc="-1" strike="noStrike">
                <a:solidFill>
                  <a:srgbClr val="000000"/>
                </a:solidFill>
                <a:latin typeface="Tw Cen MT"/>
              </a:rPr>
              <a:t> Refazê-la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w Cen MT"/>
              </a:rPr>
              <a:t>T3 e T5 ainda não tinham sido encerradas </a:t>
            </a:r>
            <a:r>
              <a:rPr b="0" lang="pt-B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400" spc="-1" strike="noStrike">
                <a:solidFill>
                  <a:srgbClr val="000000"/>
                </a:solidFill>
                <a:latin typeface="Tw Cen MT"/>
              </a:rPr>
              <a:t> Desfazê-la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055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775f55"/>
                </a:solidFill>
                <a:latin typeface="Tw Cen MT"/>
              </a:rPr>
              <a:t>Recuperação de Falha de Disco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Tw Cen MT"/>
              </a:rPr>
              <a:t>O BD está danificado!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Tw Cen MT"/>
              </a:rPr>
              <a:t>Uma falha deste tipo ocorre raramente, mas deve ser previst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Tw Cen MT"/>
              </a:rPr>
              <a:t>Necessita de uma cópia de segurança (backup) atualizada periodicamen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Tw Cen MT"/>
              </a:rPr>
              <a:t>O BD deve ser restaurado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w Cen MT"/>
              </a:rPr>
              <a:t>pela carga da cópia de segurança e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w Cen MT"/>
              </a:rPr>
              <a:t>pelo uso do Log para refazer todas as operações feitas após a cópi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Tw Cen MT"/>
              </a:rPr>
              <a:t>Material baseado nas aulas da prof. Renata Vilas Boas 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rebuchet MS"/>
              </a:rPr>
              <a:t>Motivação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rebuchet MS"/>
              </a:rPr>
              <a:t>Conceitos Básico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rebuchet MS"/>
              </a:rPr>
              <a:t>Meios de Armazenamento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rebuchet MS"/>
              </a:rPr>
              <a:t>Tipos de Falha e sua Recuperação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rebuchet MS"/>
              </a:rPr>
              <a:t>LOG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rebuchet MS"/>
              </a:rPr>
              <a:t>Checkpoin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775f55"/>
                </a:solidFill>
                <a:latin typeface="Tw Cen MT"/>
              </a:rPr>
              <a:t>Tipos de Backup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Tw Cen MT"/>
              </a:rPr>
              <a:t>Complet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w Cen MT"/>
              </a:rPr>
              <a:t>Banco de Dado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w Cen MT"/>
              </a:rPr>
              <a:t>Realiza o backup de todo o banco de dado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w Cen MT"/>
              </a:rPr>
              <a:t>Arquivo de Log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w Cen MT"/>
              </a:rPr>
              <a:t>Realiza o backup apenas do Lo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Tw Cen MT"/>
              </a:rPr>
              <a:t>Diferencia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w Cen MT"/>
              </a:rPr>
              <a:t>Realiza o backup apenas da parte que foi modificada após o último backup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5345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775f55"/>
                </a:solidFill>
                <a:latin typeface="Tw Cen MT"/>
              </a:rPr>
              <a:t>Exercício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152280" y="167652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w Cen MT"/>
              </a:rPr>
              <a:t>Discuta os tipos de falhas que podem ocorrer a um BD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w Cen MT"/>
              </a:rPr>
              <a:t>O que é checkpoint? Qual a importância de gravar um registro de checkpoint no Log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w Cen MT"/>
              </a:rPr>
              <a:t>Explique o procedimento que deve ser feito para restaurar o BD no caso de uma falha do sistema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1" name="Text Box 5"/>
          <p:cNvSpPr/>
          <p:nvPr/>
        </p:nvSpPr>
        <p:spPr>
          <a:xfrm>
            <a:off x="533520" y="3182760"/>
            <a:ext cx="1839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8534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775f55"/>
                </a:solidFill>
                <a:latin typeface="Tw Cen MT"/>
              </a:rPr>
              <a:t>Exercício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152280" y="15238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w Cen MT"/>
              </a:rPr>
              <a:t>Responda: (1) O que acontece depois da falha com cada transação e por quê? (2) Qual o valor dos dados após o processo de recuperação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Text Box 4"/>
          <p:cNvSpPr/>
          <p:nvPr/>
        </p:nvSpPr>
        <p:spPr>
          <a:xfrm>
            <a:off x="4856760" y="3124080"/>
            <a:ext cx="2344680" cy="36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[write, T3, B, 10, 8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[commit, T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[início, T4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[read, T4, A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[write, T2, D, 0, 25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[início, T5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[write, T4, A, 20, 15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[read, T5, A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[commit, T4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[write, T5, A, 15, 65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[read, T2, 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FALHA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5"/>
          <p:cNvSpPr/>
          <p:nvPr/>
        </p:nvSpPr>
        <p:spPr>
          <a:xfrm>
            <a:off x="533520" y="3182760"/>
            <a:ext cx="1839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6"/>
          <p:cNvSpPr/>
          <p:nvPr/>
        </p:nvSpPr>
        <p:spPr>
          <a:xfrm>
            <a:off x="1164240" y="2971800"/>
            <a:ext cx="2154240" cy="36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[início, T1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[read, T1, A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[read, T1, 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[início, T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[read, T2, C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[write, T1, A, 3, 20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[commit, T1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[write, T2, C, 2, 40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[início, T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[read, T3, 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[checkpoi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Freeform 9"/>
          <p:cNvSpPr/>
          <p:nvPr/>
        </p:nvSpPr>
        <p:spPr>
          <a:xfrm>
            <a:off x="2209680" y="2882880"/>
            <a:ext cx="3124440" cy="3822840"/>
          </a:xfrm>
          <a:custGeom>
            <a:avLst/>
            <a:gdLst>
              <a:gd name="textAreaLeft" fmla="*/ 0 w 3124440"/>
              <a:gd name="textAreaRight" fmla="*/ 3124800 w 3124440"/>
              <a:gd name="textAreaTop" fmla="*/ 0 h 3822840"/>
              <a:gd name="textAreaBottom" fmla="*/ 3823200 h 3822840"/>
            </a:gdLst>
            <a:ahLst/>
            <a:rect l="textAreaLeft" t="textAreaTop" r="textAreaRight" b="textAreaBottom"/>
            <a:pathLst>
              <a:path w="1776" h="2504">
                <a:moveTo>
                  <a:pt x="0" y="2440"/>
                </a:moveTo>
                <a:cubicBezTo>
                  <a:pt x="312" y="2472"/>
                  <a:pt x="624" y="2504"/>
                  <a:pt x="864" y="2152"/>
                </a:cubicBezTo>
                <a:cubicBezTo>
                  <a:pt x="1104" y="1800"/>
                  <a:pt x="1288" y="656"/>
                  <a:pt x="1440" y="328"/>
                </a:cubicBezTo>
                <a:cubicBezTo>
                  <a:pt x="1592" y="0"/>
                  <a:pt x="1684" y="92"/>
                  <a:pt x="1776" y="184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ropriedades de uma transaçã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558bb8"/>
                </a:solidFill>
                <a:latin typeface="Tw Cen MT"/>
              </a:rPr>
              <a:t>Atomicidade</a:t>
            </a:r>
            <a:r>
              <a:rPr b="0" lang="pt-BR" sz="2900" spc="-1" strike="noStrike">
                <a:solidFill>
                  <a:srgbClr val="000000"/>
                </a:solidFill>
                <a:latin typeface="Tw Cen MT"/>
              </a:rPr>
              <a:t>: Todas as ações na transação acontecem, ou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enhuma acontec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558bb8"/>
                </a:solidFill>
                <a:latin typeface="Tw Cen MT"/>
              </a:rPr>
              <a:t>Consistência</a:t>
            </a:r>
            <a:r>
              <a:rPr b="0" lang="pt-BR" sz="2900" spc="-1" strike="noStrike">
                <a:solidFill>
                  <a:srgbClr val="000000"/>
                </a:solidFill>
                <a:latin typeface="Tw Cen MT"/>
              </a:rPr>
              <a:t>: Se toda a transação é consistente, e o BD inicia consistente, então o BD termina consistent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558bb8"/>
                </a:solidFill>
                <a:latin typeface="Tw Cen MT"/>
              </a:rPr>
              <a:t>Isolamento</a:t>
            </a:r>
            <a:r>
              <a:rPr b="0" lang="pt-BR" sz="2900" spc="-1" strike="noStrike">
                <a:solidFill>
                  <a:srgbClr val="000000"/>
                </a:solidFill>
                <a:latin typeface="Tw Cen MT"/>
              </a:rPr>
              <a:t>: A execução de uma transação é isolada de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utras transaçõ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558bb8"/>
                </a:solidFill>
                <a:latin typeface="Tw Cen MT"/>
              </a:rPr>
              <a:t>Durabilidade</a:t>
            </a:r>
            <a:r>
              <a:rPr b="0" lang="pt-BR" sz="2900" spc="-1" strike="noStrike">
                <a:solidFill>
                  <a:srgbClr val="000000"/>
                </a:solidFill>
                <a:latin typeface="Tw Cen MT"/>
              </a:rPr>
              <a:t>: Se uma transação é finalizada, seu efeito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ersist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775f55"/>
                </a:solidFill>
                <a:latin typeface="Tw Cen MT"/>
              </a:rPr>
              <a:t>Motivação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09480" y="1600200"/>
            <a:ext cx="83059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Tw Cen MT"/>
              </a:rPr>
              <a:t>Sistema de computador está sujeito a falha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w Cen MT"/>
              </a:rPr>
              <a:t>Existem diversos tipos de falhas, as quais podem acarretar perda dos dado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Tw Cen MT"/>
              </a:rPr>
              <a:t>O sistema deve garantir que as propriedades de </a:t>
            </a:r>
            <a:r>
              <a:rPr b="1" lang="pt-BR" sz="2900" spc="-1" strike="noStrike">
                <a:solidFill>
                  <a:srgbClr val="558bb8"/>
                </a:solidFill>
                <a:latin typeface="Tw Cen MT"/>
              </a:rPr>
              <a:t>atomicidade</a:t>
            </a:r>
            <a:r>
              <a:rPr b="0" lang="pt-BR" sz="2900" spc="-1" strike="noStrike">
                <a:solidFill>
                  <a:srgbClr val="000000"/>
                </a:solidFill>
                <a:latin typeface="Tw Cen MT"/>
              </a:rPr>
              <a:t> e </a:t>
            </a:r>
            <a:r>
              <a:rPr b="1" lang="pt-BR" sz="2900" spc="-1" strike="noStrike">
                <a:solidFill>
                  <a:srgbClr val="558bb8"/>
                </a:solidFill>
                <a:latin typeface="Tw Cen MT"/>
              </a:rPr>
              <a:t>durabilidade</a:t>
            </a:r>
            <a:r>
              <a:rPr b="0" lang="pt-BR" sz="2900" spc="-1" strike="noStrike">
                <a:solidFill>
                  <a:srgbClr val="000000"/>
                </a:solidFill>
                <a:latin typeface="Tw Cen MT"/>
              </a:rPr>
              <a:t> das transações sejam preservada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775f55"/>
                </a:solidFill>
                <a:latin typeface="Tw Cen MT"/>
              </a:rPr>
              <a:t>Motivação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AutoShape 6"/>
          <p:cNvSpPr/>
          <p:nvPr/>
        </p:nvSpPr>
        <p:spPr>
          <a:xfrm>
            <a:off x="411120" y="3352680"/>
            <a:ext cx="2865600" cy="192096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704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B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nsist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AutoShape 7"/>
          <p:cNvSpPr/>
          <p:nvPr/>
        </p:nvSpPr>
        <p:spPr>
          <a:xfrm>
            <a:off x="5867280" y="3733920"/>
            <a:ext cx="3048120" cy="1463400"/>
          </a:xfrm>
          <a:prstGeom prst="cloudCallout">
            <a:avLst>
              <a:gd name="adj1" fmla="val -13907"/>
              <a:gd name="adj2" fmla="val -112111"/>
            </a:avLst>
          </a:prstGeom>
          <a:solidFill>
            <a:srgbClr val="ffffff"/>
          </a:solidFill>
          <a:ln w="9360">
            <a:solidFill>
              <a:srgbClr val="704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BD Inconsist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8"/>
          <p:cNvSpPr/>
          <p:nvPr/>
        </p:nvSpPr>
        <p:spPr>
          <a:xfrm>
            <a:off x="990720" y="2209680"/>
            <a:ext cx="650880" cy="117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9"/>
          <p:cNvSpPr/>
          <p:nvPr/>
        </p:nvSpPr>
        <p:spPr>
          <a:xfrm>
            <a:off x="1676520" y="2057400"/>
            <a:ext cx="0" cy="12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10"/>
          <p:cNvSpPr/>
          <p:nvPr/>
        </p:nvSpPr>
        <p:spPr>
          <a:xfrm flipH="1">
            <a:off x="1752480" y="2057400"/>
            <a:ext cx="1301760" cy="12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11"/>
          <p:cNvSpPr/>
          <p:nvPr/>
        </p:nvSpPr>
        <p:spPr>
          <a:xfrm rot="18958200">
            <a:off x="1283400" y="2252160"/>
            <a:ext cx="20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Transaçõ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12"/>
          <p:cNvSpPr/>
          <p:nvPr/>
        </p:nvSpPr>
        <p:spPr>
          <a:xfrm>
            <a:off x="3352680" y="4191120"/>
            <a:ext cx="26672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13"/>
          <p:cNvSpPr/>
          <p:nvPr/>
        </p:nvSpPr>
        <p:spPr>
          <a:xfrm>
            <a:off x="3002040" y="3524400"/>
            <a:ext cx="15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Tahoma"/>
              </a:rPr>
              <a:t>Fal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14"/>
          <p:cNvSpPr/>
          <p:nvPr/>
        </p:nvSpPr>
        <p:spPr>
          <a:xfrm flipH="1" flipV="1">
            <a:off x="3428640" y="5105520"/>
            <a:ext cx="2971800" cy="1584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15"/>
          <p:cNvSpPr/>
          <p:nvPr/>
        </p:nvSpPr>
        <p:spPr>
          <a:xfrm>
            <a:off x="3505320" y="5334120"/>
            <a:ext cx="32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00"/>
                </a:solidFill>
                <a:latin typeface="Tahoma"/>
              </a:rPr>
              <a:t>Técnicas de Recuper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775f55"/>
                </a:solidFill>
                <a:latin typeface="Tw Cen MT"/>
              </a:rPr>
              <a:t>Conceitos Básico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w Cen MT"/>
              </a:rPr>
              <a:t>Transação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w Cen MT"/>
              </a:rPr>
              <a:t>Unidade de trabalho; Unidade de recuperação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w Cen MT"/>
              </a:rPr>
              <a:t>As propriedades devem ser preservada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w Cen MT"/>
              </a:rPr>
              <a:t>Recuperação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w Cen MT"/>
              </a:rPr>
              <a:t>O SGBD é acionado automaticamente para resolver os tipos de falhas esperado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w Cen MT"/>
              </a:rPr>
              <a:t>Condição básic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w Cen MT"/>
              </a:rPr>
              <a:t>Armazenamento de informação redundante durante o funcionamento normal (log, backup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w Cen MT"/>
              </a:rPr>
              <a:t>Estado do BD deve ser recuperado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w Cen MT"/>
              </a:rPr>
              <a:t>Ao mais recente estado consistente antes da falha (satisfaz todas as restrições de integridade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305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775f55"/>
                </a:solidFill>
                <a:latin typeface="Tw Cen MT"/>
              </a:rPr>
              <a:t>Observe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52280" y="1752480"/>
            <a:ext cx="8763120" cy="43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12480" indent="-312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w Cen MT"/>
              </a:rPr>
              <a:t>O planejamento e o processo de Back Up geralmente envolve a seguinte questão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w Cen MT"/>
              </a:rPr>
              <a:t>Isto porque é preciso conhecer o funcionamento do gerenciador de recuperação, determinar a frequência com que será feito o Backup e onde ele ficará armazenado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w Cen MT"/>
              </a:rPr>
              <a:t>No pior caso, se o backup estiver guardado próximo a máquina com os dados e a sala que eles estiverem pegar fogo...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990720" y="2743200"/>
            <a:ext cx="693396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9"/>
                </a:solidFill>
                <a:latin typeface="Comic Sans MS"/>
              </a:rPr>
              <a:t>Quanto você está disposto a perd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34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775f55"/>
                </a:solidFill>
                <a:latin typeface="Tw Cen MT"/>
              </a:rPr>
              <a:t>Meios de Armazenament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53316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w Cen MT"/>
              </a:rPr>
              <a:t>Voláti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w Cen MT"/>
              </a:rPr>
              <a:t>Buffer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w Cen MT"/>
              </a:rPr>
              <a:t>Os dados estão armazenados na memória principal do computador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w Cen MT"/>
              </a:rPr>
              <a:t>Acesso mais rápido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w Cen MT"/>
              </a:rPr>
              <a:t>A informação residente neste meio usualmente, não sobrevive a quedas no sistem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w Cen MT"/>
              </a:rPr>
              <a:t>Não-voláti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w Cen MT"/>
              </a:rPr>
              <a:t>Os dados estão armazenados em discos e/ou fita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w Cen MT"/>
              </a:rPr>
              <a:t>A informação residente neste meio sobrevive a quedas no sistema mas pode não sobreviver a falhas neste meio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w Cen MT"/>
              </a:rPr>
              <a:t>Estáve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w Cen MT"/>
              </a:rPr>
              <a:t>A informação residente neste meio “nunca” é perdid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w Cen MT"/>
              </a:rPr>
              <a:t>Meio mais seguro do que a não-voláti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775f55"/>
                </a:solidFill>
                <a:latin typeface="Tw Cen MT"/>
              </a:rPr>
              <a:t>Tipos Falha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09480" y="15235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w Cen MT"/>
              </a:rPr>
              <a:t>Falha de transação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558bb8"/>
                </a:solidFill>
                <a:latin typeface="Tw Cen MT"/>
              </a:rPr>
              <a:t>Erro lógico</a:t>
            </a:r>
            <a:r>
              <a:rPr b="0" lang="pt-BR" sz="2200" spc="-1" strike="noStrike">
                <a:solidFill>
                  <a:srgbClr val="000000"/>
                </a:solidFill>
                <a:latin typeface="Tw Cen MT"/>
              </a:rPr>
              <a:t>. A transação não pode continuar sua execução normal devido a alguma condição não satisfeita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558bb8"/>
                </a:solidFill>
                <a:latin typeface="Tw Cen MT"/>
              </a:rPr>
              <a:t>Erro de sistema</a:t>
            </a:r>
            <a:r>
              <a:rPr b="0" lang="pt-BR" sz="2200" spc="-1" strike="noStrike">
                <a:solidFill>
                  <a:srgbClr val="000000"/>
                </a:solidFill>
                <a:latin typeface="Tw Cen MT"/>
              </a:rPr>
              <a:t>. O sistema entrou em um estado inadequado (deadlock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w Cen MT"/>
              </a:rPr>
              <a:t>Falha do sistem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558bb8"/>
                </a:solidFill>
                <a:latin typeface="Tw Cen MT"/>
              </a:rPr>
              <a:t>Queda de energia</a:t>
            </a:r>
            <a:r>
              <a:rPr b="0" lang="pt-BR" sz="2200" spc="-1" strike="noStrike">
                <a:solidFill>
                  <a:srgbClr val="000000"/>
                </a:solidFill>
                <a:latin typeface="Tw Cen MT"/>
              </a:rPr>
              <a:t>. Não danifica fisicamente o BD, mas as informações em memória volátil são perdidas. Afeta todas as transações em curso no momento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w Cen MT"/>
              </a:rPr>
              <a:t>Falha de Mídi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w Cen MT"/>
              </a:rPr>
              <a:t>Bloco de disco perdeu conteúdo em função da </a:t>
            </a:r>
            <a:r>
              <a:rPr b="1" lang="pt-BR" sz="2200" spc="-1" strike="noStrike">
                <a:solidFill>
                  <a:srgbClr val="558bb8"/>
                </a:solidFill>
                <a:latin typeface="Tw Cen MT"/>
              </a:rPr>
              <a:t>quebra do cabeçote </a:t>
            </a:r>
            <a:r>
              <a:rPr b="0" lang="pt-BR" sz="2200" spc="-1" strike="noStrike">
                <a:solidFill>
                  <a:srgbClr val="000000"/>
                </a:solidFill>
                <a:latin typeface="Tw Cen MT"/>
              </a:rPr>
              <a:t>ou </a:t>
            </a:r>
            <a:r>
              <a:rPr b="1" lang="pt-BR" sz="2200" spc="-1" strike="noStrike">
                <a:solidFill>
                  <a:srgbClr val="558bb8"/>
                </a:solidFill>
                <a:latin typeface="Tw Cen MT"/>
              </a:rPr>
              <a:t>falha durante a transferência de dados</a:t>
            </a:r>
            <a:r>
              <a:rPr b="0" lang="pt-BR" sz="2200" spc="-1" strike="noStrike">
                <a:solidFill>
                  <a:srgbClr val="000000"/>
                </a:solidFill>
                <a:latin typeface="Tw Cen MT"/>
              </a:rPr>
              <a:t>. Danifica fisicamente o BD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5T19:03:28Z</dcterms:created>
  <dc:creator>renata</dc:creator>
  <dc:description/>
  <dc:language>en-US</dc:language>
  <cp:lastModifiedBy>lilian</cp:lastModifiedBy>
  <dcterms:modified xsi:type="dcterms:W3CDTF">2012-05-01T22:16:02Z</dcterms:modified>
  <cp:revision>132</cp:revision>
  <dc:subject/>
  <dc:title>Banco de Dados II</dc:title>
</cp:coreProperties>
</file>